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6D6D-C510-4A13-B791-F1A311B5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A02-88C6-4944-AC9C-7A72BBBD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1FD-B528-41C7-923F-64DE2E60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A4BB-F0B7-4BFD-AD57-B9F7AEE6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51F7-0C08-4D86-B1F6-89898F31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74E5-0587-4213-8B24-46960197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015C-5528-478B-83BB-2D0DAF93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5A85-ED62-4E08-A506-15AD6EFE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25D6-65E5-4F4A-830C-801EAD88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7E59-F4B9-43B8-B416-A882CA02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F2D6-450B-4CC1-839F-029023E7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193D-EC2F-4D02-A9A4-283FF962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C7EB-4BB3-485F-93F4-D8F9ABD3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FD8F-ED56-4BB3-9C63-1555184A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3701-A894-45B2-AF31-8EBFEEAB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EE4E-8D96-4855-9D85-39DFB6D9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6B2B-AD1F-4686-81BA-65D51753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A883-3FB3-40A2-9B4F-95A7042D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4C77-0A4F-45EB-8474-4DEA909B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592-AAD8-4108-BD4F-53E19813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411-E9BE-4D5B-A6F6-F87424D5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EEC9-1072-4D5F-934E-CDEBDAFC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F63-7BC4-42F5-9E33-A304DDCE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0B0-3588-462B-89C0-763574D4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7d2f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952B-C536-47F9-A9A4-9A13A8C682C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805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7d2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E404-C6AB-4922-B07B-41FBC937D69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805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7d2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d2f3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Q9AC7GH9Sc" TargetMode="External"/><Relationship Id="rId2" Type="http://schemas.openxmlformats.org/officeDocument/2006/relationships/hyperlink" Target="http://www.youtube.com/watch?v=eQ9AC7GH9Sc" TargetMode="External"/><Relationship Id="rId3" Type="http://schemas.openxmlformats.org/officeDocument/2006/relationships/hyperlink" Target="http://www.youtube.com/watch?v=eQ9AC7GH9Sc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720" y="1294920"/>
            <a:ext cx="411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cc"/>
                </a:solidFill>
                <a:latin typeface="Arial"/>
              </a:rPr>
              <a:t>Life on the Homefron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200400"/>
            <a:ext cx="64767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Quest and Holocaust notes (32.3) due Friday, April 20 – There will be a qui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ld War II Test on Mon, April 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nk you for your hard work on Monday with our sub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iz Corrections opport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248520" y="304920"/>
            <a:ext cx="2247840" cy="28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To recap involvement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0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30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=eQ9AC7GH9S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Toda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mefront Readings &amp; Pos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allery Walk/Presen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mefront Paragraph – due at the end of class to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0" t="0" r="6411" b="0"/>
          <a:stretch/>
        </p:blipFill>
        <p:spPr>
          <a:xfrm>
            <a:off x="2590920" y="3429000"/>
            <a:ext cx="3200400" cy="3267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286680" y="3809880"/>
            <a:ext cx="22478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Toda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mefront Readings &amp; Po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allery Walk/Presen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mefront Paragraph – due at the end of class to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orktime – Things due Friday 4/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805d32"/>
              </a:buClr>
              <a:buSzPct val="75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z Cor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805d32"/>
              </a:buClr>
              <a:buSzPct val="75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.3 Holocaust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805d32"/>
              </a:buClr>
              <a:buSzPct val="75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Quest – Internment (sorry, no lab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20:49:29Z</dcterms:created>
  <dc:creator>MCPASD</dc:creator>
  <dc:description/>
  <dc:language>en-US</dc:language>
  <cp:lastModifiedBy>MCPASD</cp:lastModifiedBy>
  <dcterms:modified xsi:type="dcterms:W3CDTF">2012-04-18T18:49:17Z</dcterms:modified>
  <cp:revision>4</cp:revision>
  <dc:subject/>
  <dc:title>Life on the Homefront</dc:title>
</cp:coreProperties>
</file>